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2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5170-C5C9-4D9C-9745-A34E08E74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258-348A-43BC-A241-4B630597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406-D593-4E75-A6B9-13D4DF7B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3A39-75BC-42B8-B5CD-4A725969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802D-3F3B-40D1-90D7-894F3045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AE34-07F5-42FE-A8DF-DA9D69F4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9EF7-E880-47C9-AEF9-003D3DE0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AA12-EE95-4898-94B7-0844A133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49E5-C3A7-49FB-8978-B68276C6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EF8E-A03A-4895-99F2-6ED57C7C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E41D-250E-44EC-B7EB-52DC23E5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780A-FFD4-4C32-A88B-68519425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2942-008A-48BF-82C7-123FFB20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57EC-0353-4CA5-8C6C-07AC26D3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59C9-26F0-4B3E-96F0-5195BC56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5FCA-D820-4077-A8C9-431E2A68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FE7D-EE0B-4B7A-8D57-A28A7C0A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8E87-D78B-457D-B124-BE0AC28C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747B-7545-4828-961D-13C4DD5B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C8D-3A36-409D-AE4D-BA7ADD25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8B0-6063-4BE7-918B-E1A59E85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2EA-BB85-4CCD-B7EC-9DEFDB3B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DA3D-6EC6-4F35-A16E-EEC79B2D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78A-E1BB-47B9-BE9A-82779C6D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BF94-7B91-4398-94C9-28E1A1F3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D561-296A-492C-8F33-25539D0CC6C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6976-6474-472F-BC40-8384E174905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4" descr="travel-france-pic-liberte"/>
          <p:cNvPicPr/>
          <p:nvPr/>
        </p:nvPicPr>
        <p:blipFill>
          <a:blip r:embed="rId1"/>
          <a:stretch/>
        </p:blipFill>
        <p:spPr>
          <a:xfrm>
            <a:off x="3505320" y="2895480"/>
            <a:ext cx="25146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vents continu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created their own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the Rights of Man and Citizen </a:t>
            </a: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odeled after TJ’s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Independe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Picture 6" descr="frenchrevolution1"/>
          <p:cNvPicPr/>
          <p:nvPr/>
        </p:nvPicPr>
        <p:blipFill>
          <a:blip r:embed="rId1"/>
          <a:stretch/>
        </p:blipFill>
        <p:spPr>
          <a:xfrm>
            <a:off x="3429000" y="2216160"/>
            <a:ext cx="57150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ffects of 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Both the King and Queen were behead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monarchy no mo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Picture 6" descr="guillotine"/>
          <p:cNvPicPr/>
          <p:nvPr/>
        </p:nvPicPr>
        <p:blipFill>
          <a:blip r:embed="rId1"/>
          <a:stretch/>
        </p:blipFill>
        <p:spPr>
          <a:xfrm>
            <a:off x="4191120" y="91440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ffects continued. . .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5000" y="1295280"/>
            <a:ext cx="312408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Sold Louisiana to TJ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Picture 6" descr="Napoleon"/>
          <p:cNvPicPr/>
          <p:nvPr/>
        </p:nvPicPr>
        <p:blipFill>
          <a:blip r:embed="rId1"/>
          <a:stretch/>
        </p:blipFill>
        <p:spPr>
          <a:xfrm>
            <a:off x="479520" y="1066680"/>
            <a:ext cx="5159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Enlightenment ideas of John Locke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of people were broke and hungry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were in the lowest estate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ree Estat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28600" y="2101680"/>
          <a:ext cx="8610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01680"/>
                    <a:ext cx="8610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ourgeois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Part of the third estate, they were the “middle class”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y were bankers, merchants, factory owners (educated peo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Led the revolu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4753080" y="1523880"/>
            <a:ext cx="38829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Revolution - beginning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8840" y="1371600"/>
            <a:ext cx="38098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0a0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6" descr="Maria_1"/>
          <p:cNvPicPr/>
          <p:nvPr/>
        </p:nvPicPr>
        <p:blipFill>
          <a:blip r:embed="rId1"/>
          <a:stretch/>
        </p:blipFill>
        <p:spPr>
          <a:xfrm>
            <a:off x="141120" y="1219320"/>
            <a:ext cx="4456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read rio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People were hungry; the country was brok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picture is from an all-woman bread rio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arie Antionette said “let them eat cake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1030" descr="womenversailles"/>
          <p:cNvPicPr/>
          <p:nvPr/>
        </p:nvPicPr>
        <p:blipFill>
          <a:blip r:embed="rId1"/>
          <a:stretch/>
        </p:blipFill>
        <p:spPr>
          <a:xfrm>
            <a:off x="0" y="2286000"/>
            <a:ext cx="54864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King Louis XV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is grandfather Louis XIV was the ultimate “absolutist” king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king was wea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Picture 6" descr="louis16france"/>
          <p:cNvPicPr/>
          <p:nvPr/>
        </p:nvPicPr>
        <p:blipFill>
          <a:blip r:embed="rId1"/>
          <a:stretch/>
        </p:blipFill>
        <p:spPr>
          <a:xfrm>
            <a:off x="4981680" y="1219320"/>
            <a:ext cx="4079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tates General me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Picture 6" descr="frenchrevolutionassemblee"/>
          <p:cNvPicPr/>
          <p:nvPr/>
        </p:nvPicPr>
        <p:blipFill>
          <a:blip r:embed="rId1"/>
          <a:stretch/>
        </p:blipFill>
        <p:spPr>
          <a:xfrm>
            <a:off x="0" y="2973240"/>
            <a:ext cx="54100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6:25:44Z</dcterms:created>
  <dc:creator> jcollins</dc:creator>
  <dc:description/>
  <dc:language>en-US</dc:language>
  <cp:lastModifiedBy>RomaK</cp:lastModifiedBy>
  <dcterms:modified xsi:type="dcterms:W3CDTF">2015-09-04T09:29:26Z</dcterms:modified>
  <cp:revision>22</cp:revision>
  <dc:subject/>
  <dc:title>The French Revolution</dc:title>
</cp:coreProperties>
</file>